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4.png" ContentType="image/png"/>
  <Override PartName="/ppt/media/image23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0876-0838-4CB3-8ABE-74240280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097D-1E6F-43A0-AA1C-E06B6381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D56E-8638-48AD-A656-98A1FCB0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CE5B-D271-4500-85CD-AA06ADE5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20FD-802D-41F3-90B5-1F6A063C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3FEF-FBA0-43BC-B351-8A809704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CF89-1299-4AEC-8663-6DF84DA3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1A05-EA34-42BD-82F9-0B45B6AA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A359-25F3-4554-8936-2B0F8D94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C512-B319-4C7E-9B1D-D661CEB0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6473-6D5B-4844-AD8D-78B187B6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0F89-0D9D-48D4-81FF-C37955CE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CA37-7D96-4E11-8E54-E39AA136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ACFC-17D5-4863-97FE-586AF9CE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2617-8E3A-4BB6-AA62-C106BE19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954B-97F1-48D4-995A-327338D3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24B5-DB0E-474E-8D2F-6845152D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7C36-AAD1-4117-902C-4B0807B9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69847-D7A2-41AB-9314-3C510C4D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065D0-AED0-42E2-AF01-2631C953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3C6C-3D4B-48FD-BF38-54279F52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C311B-5D4F-444C-8164-C08A4ABC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8DF2-955B-416A-91F0-B9597993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9779-7978-4C6A-B2D0-53E47CB0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1F5A-A05C-4B83-BBB8-A2CBCBAA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C4D3-BC16-41B6-AEBF-54EE9638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A95E-1FE7-497E-9E8F-CD834A10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1E8CC-A973-4984-B2E3-0DA91990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E6F90-1E95-4F96-B45E-C3623F77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2E0B-787D-4316-B6A9-0D958EDB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03A9-1207-4633-B7FD-B2DC92B7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49BEF-F33C-471C-9B88-7B915030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B349-011C-418B-9055-1B26C7E2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31973-01D9-4152-BE97-4B68CAC2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BC6F1-9CAB-46C7-8A4B-9A5DEFD8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91953-CBE5-4F45-93EA-7B0FC550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F0672-A811-4917-838E-986E6F64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9B786-968F-4FA9-97B1-3FF9885B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1D27E-25D2-4071-A224-EC22A231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4E0CE-FF23-4DE6-8853-B68549B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69694-03EE-49C3-B4CE-7A60E51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81D10-C8ED-4AC4-8860-E408BB4A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988ED-F9E9-4FA2-9964-DAFF71FD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32E1-AE7F-48BF-84D4-41C14138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402E9-5BA8-4070-BBBD-3361F2A6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526A9-4A32-4A03-8C7A-D813ED0B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831CD-2DDD-4B87-B23F-3B7EE945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A4D87-B5F2-4195-B264-890765F0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E0F24-3A4E-47C6-8DCC-60694376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2C676-D93D-4B46-9250-18EF7722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0BB8E-129A-4130-82FC-E56928BC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3ADF0-A806-418D-8878-F42BCC08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4864C-B001-4807-BFC8-B07689B4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AE6DC-BB28-4272-82A4-CC8E9EAD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615E-7A9E-40FD-9A5C-4ADBB683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47D66-D0A8-43E6-92D1-18B0FD05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A5BB0-22E6-4E7D-BD5E-13ED50FB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D1888-B839-4668-805B-E885EA49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6CFA7-9552-43C6-B68F-7563477B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CB97-BF48-4A11-BEEC-97B5FBAA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853A4-885E-4C25-BF51-1C2D54D07B42}" type="datetime">
              <a:rPr b="0" lang="en-US" sz="18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C5D4D-EB00-462E-A144-0115A37BDDD7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848720" y="0"/>
            <a:ext cx="1295280" cy="6858000"/>
          </a:xfrm>
          <a:prstGeom prst="rect">
            <a:avLst/>
          </a:prstGeom>
          <a:gradFill rotWithShape="0">
            <a:gsLst>
              <a:gs pos="0">
                <a:srgbClr val="d9d9d9">
                  <a:alpha val="20000"/>
                </a:srgbClr>
              </a:gs>
              <a:gs pos="100000">
                <a:srgbClr val="7f7f7f">
                  <a:alpha val="20000"/>
                </a:srgbClr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titleSlideBevel.png"/>
          <p:cNvPicPr/>
          <p:nvPr/>
        </p:nvPicPr>
        <p:blipFill>
          <a:blip r:embed="rId4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DD320-9308-44B2-9D37-2DB1443B9F23}" type="datetime">
              <a:rPr b="0" lang="en-US" sz="18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2355E-7DAD-4698-B095-9E32F1A62DD1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titleSlideBevel.png"/>
          <p:cNvPicPr/>
          <p:nvPr/>
        </p:nvPicPr>
        <p:blipFill>
          <a:blip r:embed="rId3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6A461-429E-415D-9B66-1746533CBBB3}" type="datetime">
              <a:rPr b="0" lang="en-US" sz="1200" spc="-1" strike="noStrike">
                <a:solidFill>
                  <a:srgbClr val="7f7f7f"/>
                </a:solidFill>
                <a:latin typeface="Eurostile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63600" y="6356520"/>
            <a:ext cx="2130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590920" y="6356520"/>
            <a:ext cx="6681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DE103-B53C-4990-9DBB-6CCD2BFABF0B}" type="slidenum">
              <a:rPr b="1" lang="en-US" sz="1200" spc="-1" strike="noStrike">
                <a:solidFill>
                  <a:srgbClr val="7f7f7f"/>
                </a:solidFill>
                <a:latin typeface="Eurosti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SectionHeader-Bevel.png"/>
          <p:cNvPicPr/>
          <p:nvPr/>
        </p:nvPicPr>
        <p:blipFill>
          <a:blip r:embed="rId3"/>
          <a:stretch/>
        </p:blipFill>
        <p:spPr>
          <a:xfrm>
            <a:off x="928800" y="3559320"/>
            <a:ext cx="7315200" cy="19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428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7f7f7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C555D-34E6-4C1E-BCFE-51B48F0F7199}" type="datetime">
              <a:rPr b="0" lang="en-US" sz="1200" spc="-1" strike="noStrike">
                <a:solidFill>
                  <a:srgbClr val="7f7f7f"/>
                </a:solidFill>
                <a:latin typeface="Eurostile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63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omparisonBoxes.png"/>
          <p:cNvPicPr/>
          <p:nvPr/>
        </p:nvPicPr>
        <p:blipFill>
          <a:blip r:embed="rId4"/>
          <a:srcRect l="4558" t="28435" r="57797" b="7648"/>
          <a:stretch/>
        </p:blipFill>
        <p:spPr>
          <a:xfrm>
            <a:off x="363600" y="1949400"/>
            <a:ext cx="3475080" cy="429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ComparisonBoxes.png"/>
          <p:cNvPicPr/>
          <p:nvPr/>
        </p:nvPicPr>
        <p:blipFill>
          <a:blip r:embed="rId5"/>
          <a:srcRect l="4558" t="28435" r="57797" b="7648"/>
          <a:stretch/>
        </p:blipFill>
        <p:spPr>
          <a:xfrm>
            <a:off x="3992400" y="1944720"/>
            <a:ext cx="3475080" cy="42908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2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6B22B-9C5A-41F6-90F5-6AEBB862269A}" type="datetime">
              <a:rPr b="0" lang="en-US" sz="18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3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4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79072-0806-42F7-854A-EEBD220EECF2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F6DC4-D733-4D21-99E6-6BB7279ED898}" type="datetime">
              <a:rPr b="0" lang="en-US" sz="1800" spc="-1" strike="noStrike">
                <a:solidFill>
                  <a:srgbClr val="a8aeb5"/>
                </a:solidFill>
                <a:latin typeface="Eurostile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B2F69-27C8-404E-90D0-7E3FA48E8584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2"/>
          <a:stretch/>
        </p:blipFill>
        <p:spPr>
          <a:xfrm>
            <a:off x="360360" y="2968560"/>
            <a:ext cx="5132520" cy="1719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images.jpg"/>
          <p:cNvPicPr/>
          <p:nvPr/>
        </p:nvPicPr>
        <p:blipFill>
          <a:blip r:embed="rId3"/>
          <a:stretch/>
        </p:blipFill>
        <p:spPr>
          <a:xfrm>
            <a:off x="5257800" y="167652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258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images1.jpg"/>
          <p:cNvPicPr/>
          <p:nvPr/>
        </p:nvPicPr>
        <p:blipFill>
          <a:blip r:embed="rId4"/>
          <a:stretch/>
        </p:blipFill>
        <p:spPr>
          <a:xfrm>
            <a:off x="4952880" y="1554120"/>
            <a:ext cx="3505320" cy="2324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images2.jpg"/>
          <p:cNvPicPr/>
          <p:nvPr/>
        </p:nvPicPr>
        <p:blipFill>
          <a:blip r:embed="rId5"/>
          <a:stretch/>
        </p:blipFill>
        <p:spPr>
          <a:xfrm>
            <a:off x="349200" y="3878280"/>
            <a:ext cx="361944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8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262" name="Content Placeholder 9" descr=""/>
          <p:cNvPicPr/>
          <p:nvPr/>
        </p:nvPicPr>
        <p:blipFill>
          <a:blip r:embed="rId3"/>
          <a:stretch/>
        </p:blipFill>
        <p:spPr>
          <a:xfrm>
            <a:off x="365040" y="1596960"/>
            <a:ext cx="3444840" cy="4535640"/>
          </a:xfrm>
          <a:prstGeom prst="rect">
            <a:avLst/>
          </a:prstGeom>
          <a:ln w="0">
            <a:noFill/>
          </a:ln>
        </p:spPr>
      </p:pic>
      <p:pic>
        <p:nvPicPr>
          <p:cNvPr id="263" name="Content Placeholder 11" descr="images3.jpg"/>
          <p:cNvPicPr/>
          <p:nvPr/>
        </p:nvPicPr>
        <p:blipFill>
          <a:blip r:embed="rId4"/>
          <a:srcRect l="0" t="-38438" r="0" b="-38438"/>
          <a:stretch/>
        </p:blipFill>
        <p:spPr>
          <a:xfrm>
            <a:off x="4038480" y="762120"/>
            <a:ext cx="4353120" cy="57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2" descr=""/>
          <p:cNvPicPr/>
          <p:nvPr/>
        </p:nvPicPr>
        <p:blipFill>
          <a:blip r:embed="rId3"/>
          <a:stretch/>
        </p:blipFill>
        <p:spPr>
          <a:xfrm>
            <a:off x="365040" y="1596960"/>
            <a:ext cx="3444840" cy="4535640"/>
          </a:xfrm>
          <a:prstGeom prst="rect">
            <a:avLst/>
          </a:prstGeom>
          <a:ln w="0">
            <a:noFill/>
          </a:ln>
        </p:spPr>
      </p:pic>
      <p:pic>
        <p:nvPicPr>
          <p:cNvPr id="266" name="Content Placeholder 4" descr="images4.jpg"/>
          <p:cNvPicPr/>
          <p:nvPr/>
        </p:nvPicPr>
        <p:blipFill>
          <a:blip r:embed="rId4"/>
          <a:srcRect l="0" t="-97380" r="0" b="-97380"/>
          <a:stretch/>
        </p:blipFill>
        <p:spPr>
          <a:xfrm>
            <a:off x="3581280" y="152280"/>
            <a:ext cx="4876920" cy="643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268" name="Content Placeholder 3" descr=""/>
          <p:cNvPicPr/>
          <p:nvPr/>
        </p:nvPicPr>
        <p:blipFill>
          <a:blip r:embed="rId3"/>
          <a:stretch/>
        </p:blipFill>
        <p:spPr>
          <a:xfrm>
            <a:off x="4005360" y="1596960"/>
            <a:ext cx="3443040" cy="4535640"/>
          </a:xfrm>
          <a:prstGeom prst="rect">
            <a:avLst/>
          </a:prstGeom>
          <a:ln w="0">
            <a:noFill/>
          </a:ln>
        </p:spPr>
      </p:pic>
      <p:pic>
        <p:nvPicPr>
          <p:cNvPr id="269" name="Content Placeholder 9" descr="images6.jpg"/>
          <p:cNvPicPr/>
          <p:nvPr/>
        </p:nvPicPr>
        <p:blipFill>
          <a:blip r:embed="rId4"/>
          <a:srcRect l="0" t="-38087" r="0" b="-38087"/>
          <a:stretch/>
        </p:blipFill>
        <p:spPr>
          <a:xfrm>
            <a:off x="349200" y="1066680"/>
            <a:ext cx="366228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2"/>
          <a:stretch/>
        </p:blipFill>
        <p:spPr>
          <a:xfrm>
            <a:off x="378000" y="182520"/>
            <a:ext cx="7083360" cy="927000"/>
          </a:xfrm>
          <a:prstGeom prst="rect">
            <a:avLst/>
          </a:prstGeom>
          <a:ln w="0">
            <a:noFill/>
          </a:ln>
        </p:spPr>
      </p:pic>
      <p:pic>
        <p:nvPicPr>
          <p:cNvPr id="271" name="Content Placeholder 4" descr="images5.jpg"/>
          <p:cNvPicPr/>
          <p:nvPr/>
        </p:nvPicPr>
        <p:blipFill>
          <a:blip r:embed="rId3"/>
          <a:srcRect l="-11576" t="0" r="-11576" b="0"/>
          <a:stretch/>
        </p:blipFill>
        <p:spPr>
          <a:xfrm>
            <a:off x="366840" y="1523880"/>
            <a:ext cx="8686800" cy="48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273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1:49:42Z</dcterms:created>
  <dc:creator>Moffa, David</dc:creator>
  <dc:description/>
  <dc:language>en-US</dc:language>
  <cp:lastModifiedBy>Moffa, David</cp:lastModifiedBy>
  <dcterms:modified xsi:type="dcterms:W3CDTF">2011-03-31T11:45:42Z</dcterms:modified>
  <cp:revision>11</cp:revision>
  <dc:subject/>
  <dc:title>Andrew Johnson’s Legacy</dc:title>
</cp:coreProperties>
</file>